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3BF-558E-4875-B98E-5567A949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8A0-288F-4A38-A74B-A25270D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53B-B901-43E8-9BF4-25C83CCD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D4C-E973-45D9-B197-9EE02624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7B5-859B-42EF-B950-5AED4458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552-D473-4128-AEAF-8CF41C4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E5F-E942-4826-8CDD-5EDD287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A0A-3753-4367-9008-D258723E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666-21FF-4DE2-8268-B2C3E61B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E05-A587-49D2-A0CD-0A7A8D2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27D-1E74-423E-B94A-25B9D20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161-1DC3-4C3B-8363-38F11E6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A5B-E664-467C-8E66-8B0B317D7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ile probl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3733920" cy="288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0"/>
            <a:ext cx="6476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jectile is fired straight off of a  100 m high cliff at 50 m/s. F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it takes to hit the grou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 the horizontal distance it will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The velocity when it hits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76212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ile proble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92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ll is hit at a 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gle upward and leaves the bat at  25 m/s.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nitial horizontal speed         b)  the initial vertical speed     c) the time it takes to hit the groun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ight it will travel                                 e) the horizontal distance it will 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8229600" cy="3849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5334120"/>
            <a:ext cx="3429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ts for 2D projecti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given data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in the 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ood first step. Find  an equation with t and the things you are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ways 9.8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Vx =0 or Vy = 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 always equals zero at the top of a parabo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5562720"/>
            <a:ext cx="41148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2:15:37Z</dcterms:created>
  <dc:creator>mfrancesco</dc:creator>
  <dc:description/>
  <dc:language>en-US</dc:language>
  <cp:lastModifiedBy>SOCSD</cp:lastModifiedBy>
  <dcterms:modified xsi:type="dcterms:W3CDTF">2008-11-07T17:44:31Z</dcterms:modified>
  <cp:revision>3</cp:revision>
  <dc:subject/>
  <dc:title>PowerPoint Presentation</dc:title>
</cp:coreProperties>
</file>